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5752-D1DE-48B5-8CFD-3C5C7401E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9D89-1B37-405A-8301-CC48FFAD22C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5FA-703D-401A-8094-463DB877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4F7-2966-4A3E-A706-0D944BA7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845F-28A2-47E0-AFAD-72290D5D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366-78C4-4C60-8272-C1A1A6C0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1405-7E89-4019-ABCA-89E780EC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500F-CFE4-4DBF-A81D-1F4C3B0A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9326-979A-459B-87C0-86B32A3F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06E1-1CCD-4389-AA3A-3E5703CF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1603-2264-449A-9CAB-8C76F533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49C4-ADB5-4A8F-B19F-9016225A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753F-67FE-4775-B76A-825F8511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355-C122-4076-BA56-4A291E32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CC9A-29EA-49BD-9FBC-FE192A59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DCC7-38CF-4349-880F-9668759F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532A-A8BA-4E23-A381-88225B44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E4B4-0388-403D-9827-C8676270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D1A7-B998-4382-9933-99DC7DCA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D7B-8607-4AE8-A73D-CFCFDA03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EBF-02BD-404B-B4A3-8355B31C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5A6-6C71-4186-9FB0-08D83484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E22-ACE7-44A6-9A89-DD4F0009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68A-B958-4AF1-A888-C8FE5764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857-CF19-42C2-9A01-12DDB095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B7B-510D-4494-93FD-32A43325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6F68-842A-4114-9B89-61B3109D350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C785-EA24-4257-ADBF-E89BE6D7213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of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Charles  Padgett</cp:lastModifiedBy>
  <dcterms:modified xsi:type="dcterms:W3CDTF">2012-07-24T13:44:42Z</dcterms:modified>
  <cp:revision>65</cp:revision>
  <dc:subject/>
  <dc:title>QIES Year in Review - 2005</dc:title>
</cp:coreProperties>
</file>